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CF8-D7AB-48B1-9EB5-13E10A8C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A11-E6FC-47B5-A1BD-44B05528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151-B5AC-4C8E-B3B2-40460202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77F-46C4-4C13-8EF3-CA21F855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EA9-4E84-4E4F-9ADC-390FFEED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A5A-1C20-48A1-ACEC-DD9DD6BC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949-36C4-493F-9041-C65F9D5D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08D-E2D0-47B8-BF17-A1B6B96B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D80-F373-4368-9EB1-A0659DE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2D5-723A-4713-8006-4E33F23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463-A33E-46CC-B931-8056B4D1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D98-F86B-4AF1-BAFE-D1E3E29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5B3E-807C-4E45-B02C-EE3186B6F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kasnick.com/internet/racoon%2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5"/>
                </a:solidFill>
                <a:latin typeface="Calibri"/>
                <a:ea typeface="宋体"/>
              </a:rPr>
              <a:t>爱蛋糕的浣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The raccoon who loved c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orded Sound" descr=""/>
          <p:cNvPicPr/>
          <p:nvPr/>
        </p:nvPicPr>
        <p:blipFill>
          <a:blip r:embed="rId2"/>
          <a:stretch/>
        </p:blipFill>
        <p:spPr>
          <a:xfrm>
            <a:off x="-1143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orded Sound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sethbarnes.com/blogphotos/sethbarnes/www/dump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No no! you cannot eat cake! You care a raccoon and raccoons eat garbage</a:t>
            </a: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“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没有没有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宋体"/>
              </a:rPr>
              <a:t>! 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您不可能吃蛋糕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宋体"/>
              </a:rPr>
              <a:t>! 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您是浣熊，并且浣熊吃垃圾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corded Sound" descr=""/>
          <p:cNvPicPr/>
          <p:nvPr/>
        </p:nvPicPr>
        <p:blipFill>
          <a:blip r:embed="rId1"/>
          <a:stretch/>
        </p:blipFill>
        <p:spPr>
          <a:xfrm>
            <a:off x="-121932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desktopscenes.com/Scenes%20from%20Big%20Sky%20Country%20(2003)/First%20Montana%20Sunse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e did this all day till the sun fell and the moon r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他整天做了此，太阳落，并且月亮上升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ent home to his garbage can and cr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回家了他的垃圾箱并且哭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orded Sound" descr=""/>
          <p:cNvPicPr/>
          <p:nvPr/>
        </p:nvPicPr>
        <p:blipFill>
          <a:blip r:embed="rId1"/>
          <a:stretch/>
        </p:blipFill>
        <p:spPr>
          <a:xfrm>
            <a:off x="-106668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apps.co.marion.or.us/imagegallery/Recycling%20Images/photogallery/garbage%20can_RGB.jpg"/>
          <p:cNvPicPr/>
          <p:nvPr/>
        </p:nvPicPr>
        <p:blipFill>
          <a:blip r:embed="rId2"/>
          <a:stretch/>
        </p:blipFill>
        <p:spPr>
          <a:xfrm>
            <a:off x="2438280" y="1905120"/>
            <a:ext cx="4229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orded Sound" descr=""/>
          <p:cNvPicPr/>
          <p:nvPr/>
        </p:nvPicPr>
        <p:blipFill>
          <a:blip r:embed="rId1"/>
          <a:stretch/>
        </p:blipFill>
        <p:spPr>
          <a:xfrm>
            <a:off x="-83808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virtuallyjulie.com/images/2004Babies/Raccoon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怎奈当时他得到理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But then he got an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orded Sound" descr=""/>
          <p:cNvPicPr/>
          <p:nvPr/>
        </p:nvPicPr>
        <p:blipFill>
          <a:blip r:embed="rId1"/>
          <a:stretch/>
        </p:blipFill>
        <p:spPr>
          <a:xfrm>
            <a:off x="-9144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img2.timeinc.net/toh/i/steps/1107_paintroom/paint-room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他发现了油漆桶并且绘了自己所有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e found a bucket of paint and painted himself bl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orded Sound" descr=""/>
          <p:cNvPicPr/>
          <p:nvPr/>
        </p:nvPicPr>
        <p:blipFill>
          <a:blip r:embed="rId1"/>
          <a:stretch/>
        </p:blipFill>
        <p:spPr>
          <a:xfrm>
            <a:off x="-106668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www.catcrazy.info/black-ca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因此他看了似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So that he looked like a c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orded Sound" descr=""/>
          <p:cNvPicPr/>
          <p:nvPr/>
        </p:nvPicPr>
        <p:blipFill>
          <a:blip r:embed="rId1"/>
          <a:stretch/>
        </p:blipFill>
        <p:spPr>
          <a:xfrm>
            <a:off x="-11430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blog.se-nse.net/wp-content/uploads/2008/11/cat_birthday_cake.jpg"/>
          <p:cNvPicPr/>
          <p:nvPr/>
        </p:nvPicPr>
        <p:blipFill>
          <a:blip r:embed="rId2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由于大家知道猫爱蛋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Because everyone knows cats love c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The next day the raccoon went door to door disguised as a cat and ask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1"/>
          <a:stretch/>
        </p:blipFill>
        <p:spPr>
          <a:xfrm>
            <a:off x="-9144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hercules-online.com/catalog/pics/President_Security_Door.jpg"/>
          <p:cNvPicPr/>
          <p:nvPr/>
        </p:nvPicPr>
        <p:blipFill>
          <a:blip r:embed="rId2"/>
          <a:stretch/>
        </p:blipFill>
        <p:spPr>
          <a:xfrm>
            <a:off x="2133720" y="1523880"/>
            <a:ext cx="4790880" cy="4791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浣熊的次日去挨门挨户假装作为猫和被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7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orded Sound" descr=""/>
          <p:cNvPicPr/>
          <p:nvPr/>
        </p:nvPicPr>
        <p:blipFill>
          <a:blip r:embed="rId1"/>
          <a:stretch/>
        </p:blipFill>
        <p:spPr>
          <a:xfrm>
            <a:off x="-13716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www.jplicks.com/images/CakeBatter.jpg"/>
          <p:cNvPicPr/>
          <p:nvPr/>
        </p:nvPicPr>
        <p:blipFill>
          <a:blip r:embed="rId2"/>
          <a:stretch/>
        </p:blipFill>
        <p:spPr>
          <a:xfrm>
            <a:off x="1752480" y="2486160"/>
            <a:ext cx="5438880" cy="4371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May I have some cake?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“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5</a:t>
            </a: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月我有一些蛋糕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http://rodentandwildlifecontrol.com/sitebuilder/images/sad_raccoon-261x1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2"/>
          <a:stretch/>
        </p:blipFill>
        <p:spPr>
          <a:xfrm>
            <a:off x="-1600200" y="312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并且每个人被回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And each person answ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farm2.static.flickr.com/1342/539560905_f814d7427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Once there was a racc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曾经有浣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orded Sound" descr=""/>
          <p:cNvPicPr/>
          <p:nvPr/>
        </p:nvPicPr>
        <p:blipFill>
          <a:blip r:embed="rId2"/>
          <a:stretch/>
        </p:blipFill>
        <p:spPr>
          <a:xfrm>
            <a:off x="-9907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orded Sound" descr=""/>
          <p:cNvPicPr/>
          <p:nvPr/>
        </p:nvPicPr>
        <p:blipFill>
          <a:blip r:embed="rId1"/>
          <a:stretch/>
        </p:blipFill>
        <p:spPr>
          <a:xfrm>
            <a:off x="-152388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www.pawspetcare.biz/userimages/s_black-ca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“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是您可以有蛋糕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宋体"/>
              </a:rPr>
              <a:t>! </a:t>
            </a: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您是这样一只逗人喜爱的小的猫，并且猫爱蛋糕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Yes you may have cake! You are such a cute little cat, and cats love cake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1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orded Sound" descr=""/>
          <p:cNvPicPr/>
          <p:nvPr/>
        </p:nvPicPr>
        <p:blipFill>
          <a:blip r:embed="rId1"/>
          <a:stretch/>
        </p:blipFill>
        <p:spPr>
          <a:xfrm>
            <a:off x="-106668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ww.fcps.edu/islandcreekes/ecology/Mammals/Raccoon/fish-co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因此夜狡猾浣熊吃了蛋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So that night the cunning raccoon ate much c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orded Sound" descr=""/>
          <p:cNvPicPr/>
          <p:nvPr/>
        </p:nvPicPr>
        <p:blipFill>
          <a:blip r:embed="rId1"/>
          <a:stretch/>
        </p:blipFill>
        <p:spPr>
          <a:xfrm>
            <a:off x="-9144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并且他是非常愉快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And he was very hap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bojack.org/images/racco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He was always hung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他总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-129528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codinghorror.com/blog/images/garbage-dump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But he could eat nothing but garb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但他可能吃垃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-129528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myeye.us/images/DSCF2584-awwww!%20baby-16x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And this made him very s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3735"/>
                </a:solidFill>
                <a:latin typeface="Calibri"/>
                <a:ea typeface="宋体"/>
              </a:rPr>
              <a:t>并且这使他非常哀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12193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-121932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e did love to eat c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他爱吃蛋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orded Sound" descr=""/>
          <p:cNvPicPr/>
          <p:nvPr/>
        </p:nvPicPr>
        <p:blipFill>
          <a:blip r:embed="rId1"/>
          <a:stretch/>
        </p:blipFill>
        <p:spPr>
          <a:xfrm>
            <a:off x="-106668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hercules-online.com/catalog/pics/President_Security_Door.jpg"/>
          <p:cNvPicPr/>
          <p:nvPr/>
        </p:nvPicPr>
        <p:blipFill>
          <a:blip r:embed="rId2"/>
          <a:stretch/>
        </p:blipFill>
        <p:spPr>
          <a:xfrm>
            <a:off x="2133720" y="1523880"/>
            <a:ext cx="4790880" cy="479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808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那么一天他去挨门挨户和要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So one day he went door to door and ask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orded Sound" descr=""/>
          <p:cNvPicPr/>
          <p:nvPr/>
        </p:nvPicPr>
        <p:blipFill>
          <a:blip r:embed="rId1"/>
          <a:stretch/>
        </p:blipFill>
        <p:spPr>
          <a:xfrm>
            <a:off x="-106668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jplicks.com/images/CakeBatter.jpg"/>
          <p:cNvPicPr/>
          <p:nvPr/>
        </p:nvPicPr>
        <p:blipFill>
          <a:blip r:embed="rId2"/>
          <a:stretch/>
        </p:blipFill>
        <p:spPr>
          <a:xfrm>
            <a:off x="1600200" y="1515960"/>
            <a:ext cx="5638680" cy="453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“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5</a:t>
            </a:r>
            <a:r>
              <a:rPr b="1" lang="ja-JP" sz="32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月我有一些蛋糕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May I have some c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ecorded Sound" descr=""/>
          <p:cNvPicPr/>
          <p:nvPr/>
        </p:nvPicPr>
        <p:blipFill>
          <a:blip r:embed="rId1"/>
          <a:stretch/>
        </p:blipFill>
        <p:spPr>
          <a:xfrm>
            <a:off x="-76212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rodentandwildlifecontrol.com/sitebuilder/images/sad_raccoon-261x18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Calibri"/>
                <a:ea typeface="宋体"/>
              </a:rPr>
              <a:t>并且每个人被回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And every person answ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51:12Z</dcterms:created>
  <dc:creator>itsuser</dc:creator>
  <dc:description/>
  <dc:language>en-US</dc:language>
  <cp:lastModifiedBy>itsuser</cp:lastModifiedBy>
  <dcterms:modified xsi:type="dcterms:W3CDTF">2009-03-05T17:26:06Z</dcterms:modified>
  <cp:revision>17</cp:revision>
  <dc:subject/>
  <dc:title>爱蛋糕的浣熊</dc:title>
</cp:coreProperties>
</file>